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00D-FE47-42FD-927E-9A242F07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09D-F109-4C89-82CC-4B21780B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75A-F7C6-4D74-A328-DB74ACD1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B2B4-2B41-4BA4-B50F-6BDCEA9B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678E-BE80-4EA6-A81D-ECE163C5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684E-299E-472F-964E-AD497529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3D6E-24B3-4B1B-9A0E-0C537E41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FBDB-F1D5-4C30-B8F4-FB4FCF4E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6031-A37F-4B6C-A2B7-3B27F6CB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1108-9EE6-45C7-A0D6-807D9AAD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FE6A-2B45-4900-9804-D2ED8F82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D8B-09CD-4F54-B36C-B7F7FBD7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5CE2-BE53-4C08-B7D3-AD052623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AE23-4DF9-4063-AE4D-C1F6823E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4848-C778-4318-8504-2B95A814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3278-7842-4E2D-B40F-84BDD5C2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316C-5B9C-4259-8721-498A032A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6754-5FD0-435A-8078-44031A57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C0E-43FF-4E09-9B8B-F09D2B2A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4B0-7990-4B33-96FD-92806CBF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8F7D-4003-49DF-B67E-D8B9472D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20E7-AB2F-4D00-8D0A-B03C7231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B1DB-8359-4E8C-B76F-00827062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687-8869-413E-A958-38A55123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B533-ED58-4A65-B656-71E76099BE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6D3D-3411-47F3-B937-6A46D074C7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Tahoma"/>
              </a:rPr>
              <a:t>Cell Types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karyotes and Eukaryo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ll The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living things are made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are the basic uni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rganiz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living th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come fro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e-exist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karyo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sms that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nicellula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 made of onl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ll and d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ave membrane bou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rganel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Prokaryo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re simple cell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o no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a nucleus or any other complex organell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karyo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karyotes do hav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bos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 Membr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amples of Prokaryo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onl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examples of Prokaryotes ar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Bacter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ukaryo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sms that have membrane bou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rganel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Eukaryo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can be organisms made of one cell (Unicellular) or many cells (Multicellular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ukaryot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ukaryotes have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nucleu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which contains the cell’s DNA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long with a nucleus eukaryotes have many complex functional parts called organelle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ukaryotes do have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ibosom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ell Membran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ell Wal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itochondria, Golgi Complex, Chloroplas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amples of Eukaryo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karyotes are all organisms that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acter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inclu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tis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lgae, Paramecium and Seaw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ung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Molds, Yeasts and Mushr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lan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Grass, Trees, Flowers…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im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Insects, Fish, Mammals...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karyotes and Eukaryo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54097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ft- Prokaryo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ght-Eukary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cells"/>
          <p:cNvPicPr/>
          <p:nvPr/>
        </p:nvPicPr>
        <p:blipFill>
          <a:blip r:embed="rId1"/>
          <a:stretch/>
        </p:blipFill>
        <p:spPr>
          <a:xfrm>
            <a:off x="1523880" y="1447920"/>
            <a:ext cx="62485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9:31:21Z</dcterms:created>
  <dc:creator>AISD</dc:creator>
  <dc:description/>
  <dc:language>en-US</dc:language>
  <cp:lastModifiedBy>AISD</cp:lastModifiedBy>
  <dcterms:modified xsi:type="dcterms:W3CDTF">2010-09-02T21:35:17Z</dcterms:modified>
  <cp:revision>7</cp:revision>
  <dc:subject/>
  <dc:title>Cell Types</dc:title>
</cp:coreProperties>
</file>